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8061-9910-4C69-9BA0-2D273A6113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C944-601C-4A05-8CD0-28BB509B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2B4F-68D7-4153-A49A-86355F533B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4466-9227-4C20-8438-1B48CE308D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B24D-55A9-40C0-8445-8A9EBBC8A2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6B35-CE2E-48C1-9AC8-1FABB1DC29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D28D-BEC1-478C-9B6F-2B5F258043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1D74-B241-416D-955F-B8F707CA88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A431-F3AE-4578-A69D-D6F8CC860D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BC02-0732-49CF-9EAA-3A61C10884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8F83-C61F-4BEA-B56E-578A5DB37D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0BD2-7B85-4058-9F29-EBC7AD982A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316D-BCCE-4C0A-82D0-ABECEF824C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A28F-38E2-46AD-80E4-82F41A8451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29C4-706C-40AC-B52D-944246EEF3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EB55-B865-49F1-AB82-44AB582CED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B5A9-6675-40C9-BEE5-93423BC4E8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E03E-0918-4361-91A5-94171390E8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BB7F-1B6F-4738-9710-93EA10FE3F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5E65-02EC-4AB8-907B-7949FF9394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506B-EF38-4493-B080-40561390F2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7116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18800" y="152388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7116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18800" y="4190760"/>
            <a:ext cx="233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3320" y="419076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3320" y="1523880"/>
            <a:ext cx="3532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190760"/>
            <a:ext cx="7239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83018"/>
                </a:gs>
                <a:gs pos="100000">
                  <a:srgbClr val="737f3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17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sp>
            <p:nvSpPr>
              <p:cNvPr id="3" name="Rectangle 13"/>
              <p:cNvSpPr/>
              <p:nvPr/>
            </p:nvSpPr>
            <p:spPr>
              <a:xfrm>
                <a:off x="0" y="0"/>
                <a:ext cx="1371600" cy="6858000"/>
              </a:xfrm>
              <a:prstGeom prst="rect">
                <a:avLst/>
              </a:prstGeom>
              <a:gradFill rotWithShape="0">
                <a:gsLst>
                  <a:gs pos="0">
                    <a:srgbClr val="483018"/>
                  </a:gs>
                  <a:gs pos="100000">
                    <a:srgbClr val="e3c16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3716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" name="Line 15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Rectangle 10"/>
          <p:cNvSpPr/>
          <p:nvPr/>
        </p:nvSpPr>
        <p:spPr>
          <a:xfrm>
            <a:off x="1371600" y="1447920"/>
            <a:ext cx="76201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483018"/>
                </a:gs>
                <a:gs pos="100000">
                  <a:srgbClr val="525a2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18"/>
            <p:cNvGrpSpPr/>
            <p:nvPr/>
          </p:nvGrpSpPr>
          <p:grpSpPr>
            <a:xfrm>
              <a:off x="0" y="0"/>
              <a:ext cx="1371600" cy="6858000"/>
              <a:chOff x="0" y="0"/>
              <a:chExt cx="1371600" cy="6858000"/>
            </a:xfrm>
          </p:grpSpPr>
          <p:grpSp>
            <p:nvGrpSpPr>
              <p:cNvPr id="48" name="Group 17"/>
              <p:cNvGrpSpPr/>
              <p:nvPr/>
            </p:nvGrpSpPr>
            <p:grpSpPr>
              <a:xfrm>
                <a:off x="0" y="0"/>
                <a:ext cx="1371600" cy="6858000"/>
                <a:chOff x="0" y="0"/>
                <a:chExt cx="1371600" cy="6858000"/>
              </a:xfrm>
            </p:grpSpPr>
            <p:sp>
              <p:nvSpPr>
                <p:cNvPr id="49" name="Rectangle 15"/>
                <p:cNvSpPr/>
                <p:nvPr/>
              </p:nvSpPr>
              <p:spPr>
                <a:xfrm>
                  <a:off x="0" y="0"/>
                  <a:ext cx="1371600" cy="6858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483018"/>
                    </a:gs>
                    <a:gs pos="100000">
                      <a:srgbClr val="e3c16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0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0"/>
                  <a:ext cx="1371600" cy="1447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1" name="Line 10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8452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25a2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00200" y="1676160"/>
            <a:ext cx="723888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e3c16b"/>
                </a:solidFill>
                <a:latin typeface="Times New Roman"/>
              </a:rPr>
              <a:t>C’est à toi! 2</a:t>
            </a:r>
            <a:endParaRPr b="0" lang="en-US" sz="48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28954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Unité 1 – Les fête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çon 1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Les adjectifs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99" name="Picture 2" descr="C:\Documents and Settings\Michael\Local Settings\Temporary Internet Files\Content.IE5\2303URME\MC900363570[1].wmf"/>
          <p:cNvPicPr/>
          <p:nvPr/>
        </p:nvPicPr>
        <p:blipFill>
          <a:blip r:embed="rId1"/>
          <a:stretch/>
        </p:blipFill>
        <p:spPr>
          <a:xfrm>
            <a:off x="228600" y="3124080"/>
            <a:ext cx="2717640" cy="304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Documents and Settings\Michael\Local Settings\Temporary Internet Files\Content.IE5\T3QP2G2F\MC900022823[1].wmf"/>
          <p:cNvPicPr/>
          <p:nvPr/>
        </p:nvPicPr>
        <p:blipFill>
          <a:blip r:embed="rId2"/>
          <a:stretch/>
        </p:blipFill>
        <p:spPr>
          <a:xfrm>
            <a:off x="5867280" y="4267080"/>
            <a:ext cx="30481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gent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genti</a:t>
            </a:r>
            <a:r>
              <a:rPr b="1" i="1" lang="fr-FR" sz="3200" spc="-1" strike="noStrike" u="sng">
                <a:solidFill>
                  <a:srgbClr val="ff66cc"/>
                </a:solidFill>
                <a:uFillTx/>
                <a:latin typeface="Times New Roman"/>
              </a:rPr>
              <a:t>ll</a:t>
            </a: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por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por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sym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Pratiqu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Contex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: M. &amp; Mme. Diffère sont un couple bizarre. Mme. Diffère est l’opposée de son mari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Tâche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dites comment est M. Diffère basé sur la description de sa femm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3429000" y="4317840"/>
            <a:ext cx="34653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Modèle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di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diligent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paresseuse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02" name="Content Placeholder 4" descr="MCj03978020000[1]"/>
          <p:cNvPicPr/>
          <p:nvPr/>
        </p:nvPicPr>
        <p:blipFill>
          <a:blip r:embed="rId1"/>
          <a:stretch/>
        </p:blipFill>
        <p:spPr>
          <a:xfrm>
            <a:off x="1981080" y="1600200"/>
            <a:ext cx="63248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433520" y="1447920"/>
            <a:ext cx="748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vi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e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moch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rand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timide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v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intelligent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6826320" y="197496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ll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ê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sympa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716292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m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2173320" y="2820960"/>
            <a:ext cx="5827680" cy="4037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523880" y="152388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2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M. Diffère est généreux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5a28"/>
                </a:solidFill>
                <a:latin typeface="Times New Roman"/>
              </a:rPr>
              <a:t>E1: 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Alors, Mme. Diffère n’est pas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; elle est </a:t>
            </a:r>
            <a:r>
              <a:rPr b="1" lang="en-US" sz="2800" spc="-1" strike="noStrike" u="sng">
                <a:solidFill>
                  <a:srgbClr val="525a28"/>
                </a:solidFill>
                <a:uFillTx/>
                <a:latin typeface="Times New Roman"/>
              </a:rPr>
              <a:t>______________</a:t>
            </a:r>
            <a:r>
              <a:rPr b="0" lang="en-US" sz="2800" spc="-1" strike="noStrike">
                <a:solidFill>
                  <a:srgbClr val="525a28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6858000" y="1974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éné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3505320" y="2438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égoï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520" y="152388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Les adjectifs sont utilisés (used) pour décrire quelqu’un ou quelque chos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Ex. grand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ignon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      </a:t>
            </a: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intelligen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99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0"/>
          <a:ext cx="9144000" cy="6931080"/>
        </p:xfrm>
        <a:graphic>
          <a:graphicData uri="http://schemas.openxmlformats.org/drawingml/2006/table">
            <a:tbl>
              <a:tblPr/>
              <a:tblGrid>
                <a:gridCol w="2338560"/>
                <a:gridCol w="2306520"/>
                <a:gridCol w="1514520"/>
                <a:gridCol w="1514520"/>
                <a:gridCol w="1469880"/>
              </a:tblGrid>
              <a:tr h="622440">
                <a:tc gridSpan="5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Rockwell"/>
                          <a:ea typeface="Arial"/>
                        </a:rPr>
                        <a:t>Les Adjectifs - BAN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C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 - Vo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scu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min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gul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uri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uve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uv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9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32"/>
          <p:cNvSpPr/>
          <p:nvPr/>
        </p:nvSpPr>
        <p:spPr>
          <a:xfrm>
            <a:off x="2438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33"/>
          <p:cNvSpPr/>
          <p:nvPr/>
        </p:nvSpPr>
        <p:spPr>
          <a:xfrm>
            <a:off x="434340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34"/>
          <p:cNvSpPr/>
          <p:nvPr/>
        </p:nvSpPr>
        <p:spPr>
          <a:xfrm>
            <a:off x="5867280" y="1905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35"/>
          <p:cNvSpPr/>
          <p:nvPr/>
        </p:nvSpPr>
        <p:spPr>
          <a:xfrm>
            <a:off x="731520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6"/>
          <p:cNvSpPr/>
          <p:nvPr/>
        </p:nvSpPr>
        <p:spPr>
          <a:xfrm>
            <a:off x="2438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37"/>
          <p:cNvSpPr/>
          <p:nvPr/>
        </p:nvSpPr>
        <p:spPr>
          <a:xfrm>
            <a:off x="434340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38"/>
          <p:cNvSpPr/>
          <p:nvPr/>
        </p:nvSpPr>
        <p:spPr>
          <a:xfrm>
            <a:off x="5867280" y="2498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39"/>
          <p:cNvSpPr/>
          <p:nvPr/>
        </p:nvSpPr>
        <p:spPr>
          <a:xfrm>
            <a:off x="7391520" y="249876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o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40"/>
          <p:cNvSpPr/>
          <p:nvPr/>
        </p:nvSpPr>
        <p:spPr>
          <a:xfrm>
            <a:off x="2438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41"/>
          <p:cNvSpPr/>
          <p:nvPr/>
        </p:nvSpPr>
        <p:spPr>
          <a:xfrm>
            <a:off x="434340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42"/>
          <p:cNvSpPr/>
          <p:nvPr/>
        </p:nvSpPr>
        <p:spPr>
          <a:xfrm>
            <a:off x="5867280" y="3048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43"/>
          <p:cNvSpPr/>
          <p:nvPr/>
        </p:nvSpPr>
        <p:spPr>
          <a:xfrm>
            <a:off x="7391520" y="3048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viei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44"/>
          <p:cNvSpPr/>
          <p:nvPr/>
        </p:nvSpPr>
        <p:spPr>
          <a:xfrm>
            <a:off x="2438280" y="36417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45"/>
          <p:cNvSpPr/>
          <p:nvPr/>
        </p:nvSpPr>
        <p:spPr>
          <a:xfrm>
            <a:off x="434340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46"/>
          <p:cNvSpPr/>
          <p:nvPr/>
        </p:nvSpPr>
        <p:spPr>
          <a:xfrm>
            <a:off x="5867280" y="3657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47"/>
          <p:cNvSpPr/>
          <p:nvPr/>
        </p:nvSpPr>
        <p:spPr>
          <a:xfrm>
            <a:off x="7391520" y="3657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je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8"/>
          <p:cNvSpPr/>
          <p:nvPr/>
        </p:nvSpPr>
        <p:spPr>
          <a:xfrm>
            <a:off x="2438280" y="4251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49"/>
          <p:cNvSpPr/>
          <p:nvPr/>
        </p:nvSpPr>
        <p:spPr>
          <a:xfrm>
            <a:off x="434340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50"/>
          <p:cNvSpPr/>
          <p:nvPr/>
        </p:nvSpPr>
        <p:spPr>
          <a:xfrm>
            <a:off x="5867280" y="4267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1"/>
          <p:cNvSpPr/>
          <p:nvPr/>
        </p:nvSpPr>
        <p:spPr>
          <a:xfrm>
            <a:off x="7391520" y="42670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nouv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52"/>
          <p:cNvSpPr/>
          <p:nvPr/>
        </p:nvSpPr>
        <p:spPr>
          <a:xfrm>
            <a:off x="2438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53"/>
          <p:cNvSpPr/>
          <p:nvPr/>
        </p:nvSpPr>
        <p:spPr>
          <a:xfrm>
            <a:off x="434340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54"/>
          <p:cNvSpPr/>
          <p:nvPr/>
        </p:nvSpPr>
        <p:spPr>
          <a:xfrm>
            <a:off x="5867280" y="4800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55"/>
          <p:cNvSpPr/>
          <p:nvPr/>
        </p:nvSpPr>
        <p:spPr>
          <a:xfrm>
            <a:off x="7391520" y="4800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bon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56"/>
          <p:cNvSpPr/>
          <p:nvPr/>
        </p:nvSpPr>
        <p:spPr>
          <a:xfrm>
            <a:off x="2438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57"/>
          <p:cNvSpPr/>
          <p:nvPr/>
        </p:nvSpPr>
        <p:spPr>
          <a:xfrm>
            <a:off x="434340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58"/>
          <p:cNvSpPr/>
          <p:nvPr/>
        </p:nvSpPr>
        <p:spPr>
          <a:xfrm>
            <a:off x="5867280" y="539424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9"/>
          <p:cNvSpPr/>
          <p:nvPr/>
        </p:nvSpPr>
        <p:spPr>
          <a:xfrm>
            <a:off x="7391520" y="5394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mauva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0"/>
          <p:cNvSpPr/>
          <p:nvPr/>
        </p:nvSpPr>
        <p:spPr>
          <a:xfrm>
            <a:off x="2438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1"/>
          <p:cNvSpPr/>
          <p:nvPr/>
        </p:nvSpPr>
        <p:spPr>
          <a:xfrm>
            <a:off x="434340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62"/>
          <p:cNvSpPr/>
          <p:nvPr/>
        </p:nvSpPr>
        <p:spPr>
          <a:xfrm>
            <a:off x="5867280" y="5943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63"/>
          <p:cNvSpPr/>
          <p:nvPr/>
        </p:nvSpPr>
        <p:spPr>
          <a:xfrm>
            <a:off x="7391520" y="5943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gran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64"/>
          <p:cNvSpPr/>
          <p:nvPr/>
        </p:nvSpPr>
        <p:spPr>
          <a:xfrm>
            <a:off x="2438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65"/>
          <p:cNvSpPr/>
          <p:nvPr/>
        </p:nvSpPr>
        <p:spPr>
          <a:xfrm>
            <a:off x="434340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66"/>
          <p:cNvSpPr/>
          <p:nvPr/>
        </p:nvSpPr>
        <p:spPr>
          <a:xfrm>
            <a:off x="5867280" y="6461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367"/>
          <p:cNvSpPr/>
          <p:nvPr/>
        </p:nvSpPr>
        <p:spPr>
          <a:xfrm>
            <a:off x="7391520" y="64612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pet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Direction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600" y="14475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Demandez à votre partenaire les questions suivantes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Votre partenaire doit répondre en utilisant l’adjectif indiqué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25a28"/>
                </a:solidFill>
                <a:latin typeface="Times New Roman"/>
              </a:rPr>
              <a:t>ATTENTION: QUELQUES ADJECTIFS DOIVENT PRÉCÉDÉS L’OBJET QU’ILS MODIFIENT.</a:t>
            </a:r>
            <a:endParaRPr b="0" lang="en-US" sz="36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4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324480" y="3043080"/>
            <a:ext cx="265284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67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019920" y="2757600"/>
            <a:ext cx="29653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0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5386320" y="3124080"/>
            <a:ext cx="3441600" cy="29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3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5867280" y="3178080"/>
            <a:ext cx="327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2984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6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3276720" y="2895480"/>
            <a:ext cx="3062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des(f) 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79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6553080" y="3124080"/>
            <a:ext cx="18608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e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2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6019920" y="2995560"/>
            <a:ext cx="286524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</a:t>
            </a:r>
            <a:r>
              <a:rPr b="1" lang="en-US" sz="5400" spc="-1" strike="noStrike" u="sng">
                <a:solidFill>
                  <a:srgbClr val="525a28"/>
                </a:solidFill>
                <a:uFillTx/>
                <a:latin typeface="Times New Roman"/>
              </a:rPr>
              <a:t>un</a:t>
            </a: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pic>
        <p:nvPicPr>
          <p:cNvPr id="285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248520" y="3174840"/>
            <a:ext cx="267948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Mais pour tous les adjectifs, il faut les accorder en genre et nombre.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Genre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Times New Roman"/>
              </a:rPr>
              <a:t>mascul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cc"/>
                </a:solidFill>
                <a:latin typeface="Times New Roman"/>
              </a:rPr>
              <a:t>féminin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Nombr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singulier (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525a28"/>
                </a:solidFill>
                <a:latin typeface="Times New Roman"/>
              </a:rPr>
              <a:t>pluriel (xx)</a:t>
            </a:r>
            <a:endParaRPr b="0" lang="en-US" sz="28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Révisons!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bureau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vieux bureau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C:\Documents and Settings\Michael\Local Settings\Temporary Internet Files\Content.IE5\M6N0CPZS\MC900353259[1].wmf"/>
          <p:cNvPicPr/>
          <p:nvPr/>
        </p:nvPicPr>
        <p:blipFill>
          <a:blip r:embed="rId1"/>
          <a:stretch/>
        </p:blipFill>
        <p:spPr>
          <a:xfrm>
            <a:off x="6705720" y="4648320"/>
            <a:ext cx="205740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haîne stéréo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304920" y="3809880"/>
            <a:ext cx="85341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haîne stéré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" descr="C:\Documents and Settings\Michael\Local Settings\Temporary Internet Files\Content.IE5\9KICEX3P\MC900250437[1].wmf"/>
          <p:cNvPicPr/>
          <p:nvPr/>
        </p:nvPicPr>
        <p:blipFill>
          <a:blip r:embed="rId1"/>
          <a:stretch/>
        </p:blipFill>
        <p:spPr>
          <a:xfrm>
            <a:off x="6781680" y="4510080"/>
            <a:ext cx="21733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lamp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(b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belle lamp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2" descr="C:\Documents and Settings\Michael\Local Settings\Temporary Internet Files\Content.IE5\M6N0CPZS\MC900384152[1].wmf"/>
          <p:cNvPicPr/>
          <p:nvPr/>
        </p:nvPicPr>
        <p:blipFill>
          <a:blip r:embed="rId1"/>
          <a:stretch/>
        </p:blipFill>
        <p:spPr>
          <a:xfrm>
            <a:off x="6477120" y="4648320"/>
            <a:ext cx="23857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tapi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..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tapi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2" descr="C:\Documents and Settings\Michael\Local Settings\Temporary Internet Files\Content.IE5\1X2V9UFE\MC900287192[1].wmf"/>
          <p:cNvPicPr/>
          <p:nvPr/>
        </p:nvPicPr>
        <p:blipFill>
          <a:blip r:embed="rId1"/>
          <a:stretch/>
        </p:blipFill>
        <p:spPr>
          <a:xfrm>
            <a:off x="6248520" y="4800600"/>
            <a:ext cx="22003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armoir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vieux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vieille armo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2" descr="C:\Documents and Settings\Michael\Local Settings\Temporary Internet Files\Content.IE5\4S8EAT2Z\MC900192375[1].wmf"/>
          <p:cNvPicPr/>
          <p:nvPr/>
        </p:nvPicPr>
        <p:blipFill>
          <a:blip r:embed="rId1"/>
          <a:stretch/>
        </p:blipFill>
        <p:spPr>
          <a:xfrm>
            <a:off x="6735600" y="228600"/>
            <a:ext cx="24084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des étagères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joli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304920" y="405288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de jolies étagèr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2" descr="C:\Documents and Settings\Michael\Local Settings\Temporary Internet Files\Content.IE5\85PZP2BU\MC900352391[1].wmf"/>
          <p:cNvPicPr/>
          <p:nvPr/>
        </p:nvPicPr>
        <p:blipFill>
          <a:blip r:embed="rId1"/>
          <a:stretch/>
        </p:blipFill>
        <p:spPr>
          <a:xfrm>
            <a:off x="7238880" y="1349280"/>
            <a:ext cx="15559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e commode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nouveau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304920" y="3733920"/>
            <a:ext cx="85341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e nouvelle commod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2" descr="C:\Documents and Settings\Michael\Local Settings\Temporary Internet Files\Content.IE5\TQEQG3QF\MC900215864[1].wmf"/>
          <p:cNvPicPr/>
          <p:nvPr/>
        </p:nvPicPr>
        <p:blipFill>
          <a:blip r:embed="rId1"/>
          <a:stretch/>
        </p:blipFill>
        <p:spPr>
          <a:xfrm>
            <a:off x="7010280" y="4495680"/>
            <a:ext cx="17989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c16b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3152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Est-ce que tu as un lit?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25a28"/>
                </a:solidFill>
                <a:latin typeface="Times New Roman"/>
              </a:rPr>
              <a:t>Oui,… (grand)</a:t>
            </a:r>
            <a:endParaRPr b="0" lang="en-US" sz="5400" spc="-1" strike="noStrike">
              <a:solidFill>
                <a:srgbClr val="525a28"/>
              </a:solidFill>
              <a:latin typeface="Times New Roman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304920" y="3657600"/>
            <a:ext cx="853416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ahoma"/>
              </a:rPr>
              <a:t>Oui, j’ai un grand li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2" descr="C:\Documents and Settings\Michael\Local Settings\Temporary Internet Files\Content.IE5\1X2V9UFE\MC900215173[1].wmf"/>
          <p:cNvPicPr/>
          <p:nvPr/>
        </p:nvPicPr>
        <p:blipFill>
          <a:blip r:embed="rId1"/>
          <a:stretch/>
        </p:blipFill>
        <p:spPr>
          <a:xfrm>
            <a:off x="6629400" y="4329000"/>
            <a:ext cx="1841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71600" y="14619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On peut l’organiser comme ceci: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pet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pe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71600" y="21477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2895480"/>
          <a:ext cx="7731000" cy="3353040"/>
        </p:xfrm>
        <a:graphic>
          <a:graphicData uri="http://schemas.openxmlformats.org/drawingml/2006/table">
            <a:tbl>
              <a:tblPr/>
              <a:tblGrid>
                <a:gridCol w="2092320"/>
                <a:gridCol w="2819520"/>
                <a:gridCol w="281916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je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heure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heure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c16b"/>
                </a:solidFill>
                <a:latin typeface="Times New Roman"/>
              </a:rPr>
              <a:t>Les adjectifs</a:t>
            </a:r>
            <a:endParaRPr b="0" lang="en-US" sz="4400" spc="-1" strike="noStrike">
              <a:solidFill>
                <a:srgbClr val="e3c16b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371600" y="2133360"/>
            <a:ext cx="77724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25a28"/>
                </a:solidFill>
                <a:latin typeface="Times New Roman"/>
              </a:rPr>
              <a:t>Prenons l’adjectif: </a:t>
            </a:r>
            <a:r>
              <a:rPr b="1" i="1" lang="fr-FR" sz="3200" spc="-1" strike="noStrike">
                <a:solidFill>
                  <a:srgbClr val="525a28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525a28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2895480"/>
          <a:ext cx="845820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  <a:gridCol w="2819520"/>
              </a:tblGrid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fémin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gulier 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uriel (x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4"/>
          <p:cNvSpPr/>
          <p:nvPr/>
        </p:nvSpPr>
        <p:spPr>
          <a:xfrm>
            <a:off x="33526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172200" y="4191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3352680" y="5334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33cc"/>
                </a:solidFill>
                <a:latin typeface="Times New Roman"/>
              </a:rPr>
              <a:t>bea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6172200" y="5334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66cc"/>
                </a:solidFill>
                <a:latin typeface="Times New Roman"/>
              </a:rPr>
              <a:t>b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8:49Z</dcterms:created>
  <dc:creator>Mr. Smith</dc:creator>
  <dc:description/>
  <dc:language>en-US</dc:language>
  <cp:lastModifiedBy>Windows User</cp:lastModifiedBy>
  <dcterms:modified xsi:type="dcterms:W3CDTF">2013-09-25T13:16:44Z</dcterms:modified>
  <cp:revision>94</cp:revision>
  <dc:subject/>
  <dc:title>Allez, viens! – Level 2</dc:title>
</cp:coreProperties>
</file>